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F778-0BF3-4E47-AA05-58C60C187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F6E6-8259-4477-83C3-0729E9F82412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4B57-FA82-46B3-84AC-CA76ABD78174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1B27-7680-4B9A-88C7-D983B8CD2ADC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AEF6-4F3E-4F03-811B-F47C40A7B45F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E254-B459-417C-8C29-6B01EC7D674E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6BFA-C078-4ECB-89BD-A9E6F4598F06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C0CB-19B0-4655-A94B-1C4DEA41452A}" type="slidenum">
              <a:rPr b="0" lang="en-US" sz="1200" spc="-1" strike="noStrike">
                <a:solidFill>
                  <a:srgbClr val="b3b3b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104-E017-45F3-9B3A-DED2879B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1CC-53C2-46BD-B1AA-3686B453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E98-1339-414C-B1EA-03DE7F3C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BC2-9486-40F1-8422-0B7EAE5E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E41E-DA99-4F56-BBE5-A855B977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864A-3087-41C4-8B8F-6F4EA382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135B-5E9B-42EE-910B-E786FC52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4BB9-1E23-408D-8FBC-66E00059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D795-EDEF-487F-9CAB-364FEF8C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4C55-43A7-40AB-A843-28D6CEAC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3C46-CC90-4C73-AAF4-664F179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37E-3C5E-40B1-9980-8E687B19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F4CF-A10D-4CD5-99FF-723F75BC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8F46-8D9D-4778-9796-DBCC4B40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A422-25CC-477E-9999-EC98CDDE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A89A-D2E1-4CC7-A895-981AE0AE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185C-A9B6-430F-964D-29B0068E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059-ECFD-426E-A470-44D81E44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CC9-8894-4CDD-867F-2664A637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D12-1F2D-40CC-91B4-DFD21CE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7D4-EE85-4709-9770-D6F65FF0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A7C-2F50-4B9D-A7DC-D8700E98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804-8F35-4FE5-B135-1B98DD50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4DA-22CB-463B-B386-4D84920C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jellyfishsmall"/>
          <p:cNvPicPr/>
          <p:nvPr/>
        </p:nvPicPr>
        <p:blipFill>
          <a:blip r:embed="rId2"/>
          <a:srcRect l="12136" t="19398" r="47694" b="0"/>
          <a:stretch/>
        </p:blipFill>
        <p:spPr>
          <a:xfrm>
            <a:off x="6515280" y="3200400"/>
            <a:ext cx="2628720" cy="351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7ED9-7430-4106-AB0B-439FCACB4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jellyfish"/>
          <p:cNvPicPr/>
          <p:nvPr/>
        </p:nvPicPr>
        <p:blipFill>
          <a:blip r:embed="rId2"/>
          <a:srcRect l="0" t="0" r="10933" b="0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3b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3b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3b3b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D306-9FFE-4356-9B1F-B0367F15FEB8}" type="slidenum">
              <a:rPr b="0" lang="en-US" sz="1400" spc="-1" strike="noStrike">
                <a:solidFill>
                  <a:srgbClr val="b3b3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stimating With Percents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95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Lesson 6-8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Sales Tax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Round the cost of a given item to the nearest dollar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Multiply that estimate by the decimal version of the sales tax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Add the original price to the tax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227160"/>
            <a:ext cx="81630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Arial"/>
              </a:rPr>
              <a:t>Example </a:t>
            </a: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6666"/>
                </a:solidFill>
                <a:latin typeface="Arial"/>
              </a:rPr>
              <a:t> A scarf costs $14.99.  If the sales tax is 6%, how much does the scarf cost in all?</a:t>
            </a:r>
            <a:endParaRPr b="0" lang="en-US" sz="28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133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14.99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819520" y="2438280"/>
            <a:ext cx="838080" cy="0"/>
          </a:xfrm>
          <a:prstGeom prst="line">
            <a:avLst/>
          </a:prstGeom>
          <a:ln w="9360">
            <a:solidFill>
              <a:srgbClr val="b3b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657600" y="2133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15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14400" y="2940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6%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2057400" y="3276720"/>
            <a:ext cx="1066680" cy="0"/>
          </a:xfrm>
          <a:prstGeom prst="line">
            <a:avLst/>
          </a:prstGeom>
          <a:ln w="9360">
            <a:solidFill>
              <a:srgbClr val="b3b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124080" y="2895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0.06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914400" y="3701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15 x 0.06 = 0.90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62720" y="3657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The tax is $0.90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990720" y="4648320"/>
            <a:ext cx="68580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The scarf is about $15.00, and the tax is about $0.90, so the total cost is about $15.90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stimating a Tip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Estimate the cost of the meal to the nearest dollar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Multiply that cost by the decimal version of the tip (a tip is usually 15%)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Add the tip to the bill for the total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xample </a:t>
            </a:r>
            <a:r>
              <a:rPr b="0" lang="en-US" sz="3200" spc="-1" strike="noStrike">
                <a:solidFill>
                  <a:srgbClr val="ff6666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 A meal costs $26.22.  What is the total bill, including a 15% tip?</a:t>
            </a:r>
            <a:endParaRPr b="0" lang="en-US" sz="32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1981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26.22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2438280" y="2286000"/>
            <a:ext cx="990720" cy="0"/>
          </a:xfrm>
          <a:prstGeom prst="line">
            <a:avLst/>
          </a:prstGeom>
          <a:ln w="9360">
            <a:solidFill>
              <a:srgbClr val="b3b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505320" y="19810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26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57200" y="2711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15%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1981080" y="3048120"/>
            <a:ext cx="1371600" cy="0"/>
          </a:xfrm>
          <a:prstGeom prst="line">
            <a:avLst/>
          </a:prstGeom>
          <a:ln w="9360">
            <a:solidFill>
              <a:srgbClr val="b3b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505320" y="27115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0.15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9480" y="35496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26 x 0.15 = $3.9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486400" y="3581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$3.9 is $3.90.  This is the tip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09480" y="4464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b3b3"/>
                </a:solidFill>
                <a:latin typeface="Verdana"/>
              </a:rPr>
              <a:t>$26.00 + $3.90 = $29.90</a:t>
            </a:r>
            <a:endParaRPr b="0" lang="en-US" sz="36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181480" y="5257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The total cost of the meal is close to $30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66"/>
                </a:solidFill>
                <a:latin typeface="Arial"/>
              </a:rPr>
              <a:t>Estimating a Sale Price</a:t>
            </a:r>
            <a:endParaRPr b="0" lang="en-US" sz="44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ubtract the percent off from 100 to see what percent you are paying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Multiply the original price by the percent you are paying (in decimal form)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b3b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For example, if an item was on sale for 25% off, then you are actually paying 75% of the original value.</a:t>
            </a:r>
            <a:endParaRPr b="0" lang="en-US" sz="3200" spc="-1" strike="noStrike">
              <a:solidFill>
                <a:srgbClr val="b3b3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1200" y="250920"/>
            <a:ext cx="81630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Arial"/>
              </a:rPr>
              <a:t>Example -  A video game costs $49.95.  If it goes on sale for 30% off, then what is the sale price?</a:t>
            </a:r>
            <a:endParaRPr b="0" lang="en-US" sz="2800" spc="-1" strike="noStrike">
              <a:solidFill>
                <a:srgbClr val="ff666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14400" y="1981080"/>
            <a:ext cx="5715000" cy="45972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The original price is about $50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14400" y="2597040"/>
            <a:ext cx="57150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100% - 30% means that we are paying 70% of the original cost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14400" y="3581280"/>
            <a:ext cx="5715000" cy="45972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70% is 0.7 in decimal form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14400" y="4267080"/>
            <a:ext cx="5715000" cy="82548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b3b3"/>
                </a:solidFill>
                <a:latin typeface="Verdana"/>
              </a:rPr>
              <a:t>$50 x 0.7 = $35.  The sale price is about $35.</a:t>
            </a:r>
            <a:endParaRPr b="0" lang="en-US" sz="2400" spc="-1" strike="noStrike">
              <a:solidFill>
                <a:srgbClr val="b3b3b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2:22:58Z</dcterms:created>
  <dc:creator>Josh Hammond</dc:creator>
  <dc:description/>
  <dc:language>en-US</dc:language>
  <cp:lastModifiedBy>Home</cp:lastModifiedBy>
  <dcterms:modified xsi:type="dcterms:W3CDTF">2010-11-14T18:12:06Z</dcterms:modified>
  <cp:revision>13</cp:revision>
  <dc:subject/>
  <dc:title>Estimating With Percents</dc:title>
</cp:coreProperties>
</file>